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F09-4CDE-4790-860E-7382B94A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012-66B3-4CC7-B320-E37D7FD6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5B2-4A77-498A-8615-84AF91FC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1AA-971D-463F-A507-9B1FD919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BF3F-9C31-440F-90C5-49C703B2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2176-4FAD-478E-8574-2FD64E59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6F97-73D1-4116-BBBF-9E461DA4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4189-EA58-4991-A94F-9B81A7C3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E50C-24AC-4777-A75D-533BCEFB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3561-9FD5-4B04-B4C0-4BE60AB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7B99-19BE-415F-A963-BB460E20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FEA-F5D7-442E-9634-F9558C97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FAC7-AA97-423D-81BB-F673EF9B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F727-ED4B-4762-AC09-35822C2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B68E-AD81-4ECB-BECB-E43EC11E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4330-69C1-463D-859D-55685907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93C3-784F-40DA-A9C2-D4507367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5FD-8A9B-4D9F-A270-D643DB47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9C8-A413-48A8-AF47-7002CD40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A38-4004-4FD4-8580-82B92110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491-BF19-4BB8-8FB7-EB4C5BD3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0F8-6D3B-489C-A433-A0A5FDD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C31-2B03-4914-B0DF-A8A6257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C69-5D8E-4B56-A49C-B5ABBA7E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043_A_Them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FACB-1452-40BC-AC4E-F8516A178AB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7720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CEE-C289-4741-B4D9-1DF37B76B78D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1560" y="1218960"/>
            <a:ext cx="48769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Dramatic Performance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4343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asic Forensic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tagonist: the character who provides the obstacles to the protagonist’s objectiv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agonist: the principal character around whom the action revolve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ample: Batman/The Joker; Harry Potter/Voldemor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flict: the point in a play or story where action meets obstac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isation: Impromptu acting based on the following circumstances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who/what/where/when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ologue: a work written to be spoken by just by one pers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ole: a part/character/person written by a playwrigh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cript: the play in written form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atures of a Dramatic Performa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ear plot--the performance tells a full story. Contains an exposition, climax, resolutio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roduction--the performer will give an introduction that lasts 30 seconds to one minut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atures of a Dramatic Performa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. Length--must be approximately five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nutes lo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. May be humorous or dramatic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5. Movement is permitted to develop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aracter and to delineate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etween character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urces for Piec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V, movie or play scrip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ovel/short story (fiction/non-fiction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ildren’s book, fable, fairy tal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icals (short singing permitted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34:09Z</dcterms:created>
  <dc:creator>McDowell High School</dc:creator>
  <dc:description/>
  <dc:language>en-US</dc:language>
  <cp:lastModifiedBy>Amanda Sitter</cp:lastModifiedBy>
  <dcterms:modified xsi:type="dcterms:W3CDTF">2015-01-14T13:13:08Z</dcterms:modified>
  <cp:revision>3</cp:revision>
  <dc:subject/>
  <dc:title>Dramatic Performance</dc:title>
</cp:coreProperties>
</file>